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EC9-AFC0-4030-B4F0-611A2D5C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F4A-D293-4E9E-AF98-FC06CC5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62A-7054-47C0-9254-F2192DA2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CD64-02B8-4365-9BBD-7F32AD0B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AD3-F147-4C28-88AD-DE2259AE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2AE-A797-4280-92C6-1DE6ABF4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E3A-914E-491F-B993-3B5CCB1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2D1-59EC-42D2-9665-E52ACBF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246-CDEA-4FD9-97B1-FFFEB5D9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056-8F8B-4FB8-8EAC-DA70921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294-3A47-488C-A0E0-EE8D367C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B9B-2E28-465A-A0B4-9669F824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FFF6-53AA-41FC-A91A-7B96B2E8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82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 reduce to 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ost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com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2 + vi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50 + b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6275 +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T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619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3 and suc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old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62280"/>
            <a:ext cx="82296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martphone (exit seg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term challenge, no good way to low  cost U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problems with software features in  mid-term (price press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-house ultra low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2G feature phones to focus on 3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2:42:37Z</dcterms:created>
  <dc:creator>Dingle Rick</dc:creator>
  <dc:description/>
  <dc:language>en-US</dc:language>
  <cp:lastModifiedBy>Dingle Rick</cp:lastModifiedBy>
  <dcterms:modified xsi:type="dcterms:W3CDTF">2004-12-03T12:44:28Z</dcterms:modified>
  <cp:revision>1</cp:revision>
  <dc:subject/>
  <dc:title>Cost Reduction</dc:title>
</cp:coreProperties>
</file>